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26B8-BB5F-4A7D-9771-2225059D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35D6-3BB6-4F15-BDCB-73DA6D9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F5F3-1115-4860-9DBE-924AAE6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8679-EFFC-492F-A541-CA2C907A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E8A0-E70D-4430-A501-40984A9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2BC1-6D92-4DCB-B30F-C368FA8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6F2C-45AE-4ECC-8C9D-4CA0593B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1390-A756-41ED-9DC2-2DD7B13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9ADB-A074-4D53-978A-29B04F8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48B7-8642-4522-AC34-834442A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C625-216A-42EC-8963-50B2921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A29E-908F-449C-991F-3CCB6A3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C716-2999-4A1F-8FFB-66261FCA33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1 Апреля 2009 - Официальный сайт школы 725"/>
          <p:cNvPicPr/>
          <p:nvPr/>
        </p:nvPicPr>
        <p:blipFill>
          <a:blip r:embed="rId1"/>
          <a:stretch/>
        </p:blipFill>
        <p:spPr>
          <a:xfrm>
            <a:off x="30240" y="88920"/>
            <a:ext cx="9113760" cy="676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риродные ресурсы 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можно заменить сейчас или в будущ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топливно-минеральные энергоресурс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4" descr="coal"/>
          <p:cNvPicPr/>
          <p:nvPr/>
        </p:nvPicPr>
        <p:blipFill>
          <a:blip r:embed="rId1"/>
          <a:stretch/>
        </p:blipFill>
        <p:spPr>
          <a:xfrm>
            <a:off x="3352680" y="3238560"/>
            <a:ext cx="5791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нельзя заменить другими ресурса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воздух, вода, генетический фонд жив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4" descr="0_454d_d3aefea6_XL"/>
          <p:cNvPicPr/>
          <p:nvPr/>
        </p:nvPicPr>
        <p:blipFill>
          <a:blip r:embed="rId1"/>
          <a:srcRect l="0" t="6073" r="0" b="5610"/>
          <a:stretch/>
        </p:blipFill>
        <p:spPr>
          <a:xfrm>
            <a:off x="3429000" y="3257640"/>
            <a:ext cx="5715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- это природные ресурсы, количество которых ограничено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а) возобновимые -способные к быстрому восстановлению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б) относительно возобновимые - способные к восстановлению за более длительный срок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в) невозобновимые - совершенно не восстанавливаются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ли скорость их восстановления настолько мала, что использование их человеком становится невозможны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ример: животный мир, растительность, грибы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лодородие почв, деревья большого возраста (баобаб, секвойя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скопаемое сырье, энергоносители (уголь, нефть и другие полезные ископаемые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­личество которых не ограничено в процессе длительного природопользования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воды, ветра, энергия земных недр, солнечная энерги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" name="Picture 4" descr="30"/>
          <p:cNvPicPr/>
          <p:nvPr/>
        </p:nvPicPr>
        <p:blipFill>
          <a:blip r:embed="rId1"/>
          <a:srcRect l="0" t="0" r="0" b="8347"/>
          <a:stretch/>
        </p:blipFill>
        <p:spPr>
          <a:xfrm>
            <a:off x="5726160" y="3581280"/>
            <a:ext cx="341784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rquitectura_y_calentamiento_global_090608_fig18"/>
          <p:cNvPicPr/>
          <p:nvPr/>
        </p:nvPicPr>
        <p:blipFill>
          <a:blip r:embed="rId2"/>
          <a:stretch/>
        </p:blipFill>
        <p:spPr>
          <a:xfrm>
            <a:off x="0" y="4127400"/>
            <a:ext cx="4343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нер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овокупность запасов полезных ископаемых, пригодных для использова­ния в различных отраслях экономик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опливные, рудные, нерудные, химические, стройматериал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4" descr="color358_1"/>
          <p:cNvPicPr/>
          <p:nvPr/>
        </p:nvPicPr>
        <p:blipFill>
          <a:blip r:embed="rId1"/>
          <a:stretch/>
        </p:blipFill>
        <p:spPr>
          <a:xfrm>
            <a:off x="3733920" y="3605040"/>
            <a:ext cx="5410080" cy="32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2"/>
          <p:cNvPicPr/>
          <p:nvPr/>
        </p:nvPicPr>
        <p:blipFill>
          <a:blip r:embed="rId2"/>
          <a:stretch/>
        </p:blipFill>
        <p:spPr>
          <a:xfrm>
            <a:off x="0" y="3951360"/>
            <a:ext cx="3124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ем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ресурсы, входящие в структуру Мирового земельного фонда (непродуктивные земли, обрабатываемые земли, луга, леса, земли населенных пунктов)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леса, поля, луга, пастбища, пустыни, болота, территории под городами, деревня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Picture 4" descr="kartinki-super721"/>
          <p:cNvPicPr/>
          <p:nvPr/>
        </p:nvPicPr>
        <p:blipFill>
          <a:blip r:embed="rId1"/>
          <a:srcRect l="0" t="10671" r="0" b="6665"/>
          <a:stretch/>
        </p:blipFill>
        <p:spPr>
          <a:xfrm>
            <a:off x="4876920" y="4213080"/>
            <a:ext cx="4267080" cy="264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261062421_74be7e042e84"/>
          <p:cNvPicPr/>
          <p:nvPr/>
        </p:nvPicPr>
        <p:blipFill>
          <a:blip r:embed="rId2"/>
          <a:srcRect l="0" t="0" r="0" b="18370"/>
          <a:stretch/>
        </p:blipFill>
        <p:spPr>
          <a:xfrm>
            <a:off x="0" y="4199040"/>
            <a:ext cx="4343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д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ключают в себя ресурсы пресных и соленых во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оря, океаны, реки, озера, водохранилищ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4" descr="e4ab3d98134d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2770200"/>
            <a:ext cx="624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живые средообразующие компоненты биосферы, т.е. организ­мы, которые являются объектами промысл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сурсы животного мира, растительн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4" descr="1172780055_23"/>
          <p:cNvPicPr/>
          <p:nvPr/>
        </p:nvPicPr>
        <p:blipFill>
          <a:blip r:embed="rId1"/>
          <a:srcRect l="0" t="0" r="0" b="4762"/>
          <a:stretch/>
        </p:blipFill>
        <p:spPr>
          <a:xfrm>
            <a:off x="0" y="3701880"/>
            <a:ext cx="4419720" cy="315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andas_04"/>
          <p:cNvPicPr/>
          <p:nvPr/>
        </p:nvPicPr>
        <p:blipFill>
          <a:blip r:embed="rId2"/>
          <a:srcRect l="0" t="0" r="0" b="6868"/>
          <a:stretch/>
        </p:blipFill>
        <p:spPr>
          <a:xfrm>
            <a:off x="4419720" y="3718080"/>
            <a:ext cx="4724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сурсы Мирового океа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комплексное использование всех ресурсов океа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морская вода, биологические, энергетические и ресурсы д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ocean"/>
          <p:cNvPicPr/>
          <p:nvPr/>
        </p:nvPicPr>
        <p:blipFill>
          <a:blip r:embed="rId1"/>
          <a:srcRect l="0" t="24446" r="0" b="0"/>
          <a:stretch/>
        </p:blipFill>
        <p:spPr>
          <a:xfrm>
            <a:off x="1447920" y="3710160"/>
            <a:ext cx="62481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креацио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ерритории для отдыха, лечения, туризм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b30180a0b059"/>
          <p:cNvPicPr/>
          <p:nvPr/>
        </p:nvPicPr>
        <p:blipFill>
          <a:blip r:embed="rId1"/>
          <a:srcRect l="0" t="23339" r="0" b="8331"/>
          <a:stretch/>
        </p:blipFill>
        <p:spPr>
          <a:xfrm>
            <a:off x="1523880" y="3733920"/>
            <a:ext cx="6096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ПОЛНИТЕ ТАБЛИЦУ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ПРИРОДНЫЕ РЕСУРСЫ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362320"/>
          <a:ext cx="8229600" cy="3681360"/>
        </p:xfrm>
        <a:graphic>
          <a:graphicData uri="http://schemas.openxmlformats.org/drawingml/2006/table">
            <a:tbl>
              <a:tblPr/>
              <a:tblGrid>
                <a:gridCol w="2057400"/>
                <a:gridCol w="3429000"/>
                <a:gridCol w="2743200"/>
              </a:tblGrid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изводств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родные ресурсы, используемые в промышленности или сельском хозяйств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емельные, минеральные ресур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има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ресурсы, преимущественно внешние по отношению к планет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солнца, недр, ветра, влажность и т.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6f4a0ca91a2aad09ec968340b2fabd23"/>
          <p:cNvPicPr/>
          <p:nvPr/>
        </p:nvPicPr>
        <p:blipFill>
          <a:blip r:embed="rId1"/>
          <a:stretch/>
        </p:blipFill>
        <p:spPr>
          <a:xfrm>
            <a:off x="1828800" y="3157560"/>
            <a:ext cx="5562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щев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те природные тела, которые на данном уровне развития производительных сил и изученности пищевых свойств могут использоваться человеком для удовлетворения своих потребностей в питани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1273571619_allday"/>
          <p:cNvPicPr/>
          <p:nvPr/>
        </p:nvPicPr>
        <p:blipFill>
          <a:blip r:embed="rId1"/>
          <a:srcRect l="0" t="6692" r="0" b="10976"/>
          <a:stretch/>
        </p:blipFill>
        <p:spPr>
          <a:xfrm>
            <a:off x="1828800" y="3684600"/>
            <a:ext cx="5181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итель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рновые, клубнеплоды, корнеплоды, фрукты, ягоды, овощи, сахароносные, масличные, зернобобовые, тонизирующие и други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шеница, рис, персики, арбузы, сахарный тро­стник, подсолнечник, фасоль, горох, чай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1236071129_qargidali"/>
          <p:cNvPicPr/>
          <p:nvPr/>
        </p:nvPicPr>
        <p:blipFill>
          <a:blip r:embed="rId1"/>
          <a:srcRect l="0" t="14669" r="0" b="7998"/>
          <a:stretch/>
        </p:blipFill>
        <p:spPr>
          <a:xfrm>
            <a:off x="2057400" y="4073400"/>
            <a:ext cx="4800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ивот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мясо, мясные продукты, молоко, молочные продукты, яйца, птица, рыба, рыбий жир, морепродукт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свинина, говядина, куры, гуси, омары, креветки, миди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0_c291_bb0e3b0_XL"/>
          <p:cNvPicPr/>
          <p:nvPr/>
        </p:nvPicPr>
        <p:blipFill>
          <a:blip r:embed="rId1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71949596ec94"/>
          <p:cNvPicPr/>
          <p:nvPr/>
        </p:nvPicPr>
        <p:blipFill>
          <a:blip r:embed="rId2"/>
          <a:stretch/>
        </p:blipFill>
        <p:spPr>
          <a:xfrm>
            <a:off x="0" y="3591000"/>
            <a:ext cx="495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инте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новый нетрадиционный способ производства искусственных продуктов питания на основе натурального природного белк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7eeaf4e847"/>
          <p:cNvPicPr/>
          <p:nvPr/>
        </p:nvPicPr>
        <p:blipFill>
          <a:blip r:embed="rId1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ripening-soya-beans-in-field-n"/>
          <p:cNvPicPr/>
          <p:nvPr/>
        </p:nvPicPr>
        <p:blipFill>
          <a:blip r:embed="rId2"/>
          <a:stretch/>
        </p:blipFill>
        <p:spPr>
          <a:xfrm>
            <a:off x="0" y="366084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родн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 это элементы природы (объекты и явления), необходимые человеку для его жизнеобеспечения и вовлекаемые им в материальное производс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Picture 5" descr="Природные рекреационные ресурсы - Природные ресурсы - Научная и занимательная география - Merzlota.ru"/>
          <p:cNvPicPr/>
          <p:nvPr/>
        </p:nvPicPr>
        <p:blipFill>
          <a:blip r:embed="rId1"/>
          <a:stretch/>
        </p:blipFill>
        <p:spPr>
          <a:xfrm>
            <a:off x="1143000" y="2549520"/>
            <a:ext cx="6629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зводстве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используемые в промышленности или сельском хозяйств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мельные ресурсы, минераль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" name="Picture 4" descr="soil1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дравоохранит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креационные (минеральные воды, грязелечение)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4" descr="mud-therapy-in-crimea"/>
          <p:cNvPicPr/>
          <p:nvPr/>
        </p:nvPicPr>
        <p:blipFill>
          <a:blip r:embed="rId1"/>
          <a:stretch/>
        </p:blipFill>
        <p:spPr>
          <a:xfrm>
            <a:off x="4038480" y="346068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стет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сочетание естественных ресурсов, положительно воздействующих на духовные богатства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рирода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4" descr="0_bf31_551683be_XL"/>
          <p:cNvPicPr/>
          <p:nvPr/>
        </p:nvPicPr>
        <p:blipFill>
          <a:blip r:embed="rId1"/>
          <a:stretch/>
        </p:blipFill>
        <p:spPr>
          <a:xfrm>
            <a:off x="2971800" y="300024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ч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человеком в научной деяте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у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uranium-highly-enriched"/>
          <p:cNvPicPr/>
          <p:nvPr/>
        </p:nvPicPr>
        <p:blipFill>
          <a:blip r:embed="rId1"/>
          <a:stretch/>
        </p:blipFill>
        <p:spPr>
          <a:xfrm>
            <a:off x="3962520" y="271296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в настоящее время человеком в произ­водственной деятельност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инеральные (руды, топливо и др.), лес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" name="Picture 4" descr="1247462920_orman-resmi-5"/>
          <p:cNvPicPr/>
          <p:nvPr/>
        </p:nvPicPr>
        <p:blipFill>
          <a:blip r:embed="rId1"/>
          <a:srcRect l="0" t="9335" r="0" b="8000"/>
          <a:stretch/>
        </p:blipFill>
        <p:spPr>
          <a:xfrm>
            <a:off x="4038480" y="3692520"/>
            <a:ext cx="51055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тенци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неиспользуемые в настоящее время или используемые в недостаточной степе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морских течений, термического градиента океан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4" descr="deltastreamturbine-001"/>
          <p:cNvPicPr/>
          <p:nvPr/>
        </p:nvPicPr>
        <p:blipFill>
          <a:blip r:embed="rId1"/>
          <a:stretch/>
        </p:blipFill>
        <p:spPr>
          <a:xfrm>
            <a:off x="3581280" y="3521160"/>
            <a:ext cx="5562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08:2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